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024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5488-913A-4ED3-8317-B2C041E4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834C-7D9C-4C37-AD6E-BF626D73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B06C-CC7A-4124-B1F8-9849E256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33CF-CBB5-4E9F-A400-C56EA0B5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05BF-6288-4DA5-8505-8A2CBC56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FA00-A838-4B89-885C-667CF6C5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4E1E-8F6E-4A96-9432-9F0CB318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BB5C-CD3C-4ACB-91F2-C2666E9D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F07A-2CEB-4AB3-8983-8CF09AF6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88E4-53B0-4948-9A91-4793D98A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7AA4-9A32-4180-97B5-C73A1E55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322F-62C6-43FA-957F-8C28A9AB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C812-4C15-459D-AFB7-D133B42FF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16:  Random 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 Stat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ding/Subtracting a Constant to Discrete Random Vari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397836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ying/Dividing a Constant to Discrete Random Vari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that the payout for each outcome in Game 2 is doubled.  What happens to the expected value, variance and standard devi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ying/Dividing a Constant to Discrete Random Vari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41911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“chang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f you play the Game 1 twice (or you play once and your friend plays once)?  What is the expected value, variance and standard devi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“chang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play both games, what is the difference in you expected values, variances, and standard deviations.  We will look at the difference between Game 1 and Game 2.  (Need for the outcomes of the games to be independent—or else cannot go forward with problem.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ther “changes” with discrete (and continuous) random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dependent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3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491000" cy="1619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2133720" y="48769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TE:  You ALWAYS add vari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inuous Random 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continuous random variables have normal models (others do not).  All continuous random models have means and standard deviations (and varianc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given the mean and standard deviations of a continuous random variable that can be modeled by a normal curve, we can calculate certain probabilit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 two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dependen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inuous random variables have Normal models, so does their sum or differe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been determined that the annual cost of medical care for dogs  averages $100, with a standard deviation of $30, and for cats averages $120, with a standard deviation of $3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expected difference in the cost of medical care for dogs and cats?  What is the standard deviation of that differe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difference in cost can be described by a Normal model, what is the probability that medical expenses are higher from someone’s dog than for her ca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f you have two dogs and a cat?  What is the expected value of your annual medical costs?  Standard devi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Random Variable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A variable whose value is based on the outcome of a random event.  Use capital letter,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Discrete Random Variable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A random variable that can take one of a countable number of distinct outco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ntinuous Random Variable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A random variable that can take any numeric value within a range of values.  The range may be infinite or bounded at either or both en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(con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probability that your annual medical bills will exceed $40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 free game at a carnival that you attend.  In that game, a coin is tossed twice.  If the result is the same outcome (HH or TT) you win $20.  If the result is first a heads and then a tails, you win $30; but if the result is first a tails and then a heads, you lose $60.  What is the expect amount you’ll win in the long ru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cted Value of Random Discrete Vari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eoretical long-run average value,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en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its model.  It is a theoretical mea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ject 3" descr=""/>
          <p:cNvPicPr/>
          <p:nvPr/>
        </p:nvPicPr>
        <p:blipFill>
          <a:blip r:embed="rId1"/>
          <a:stretch/>
        </p:blipFill>
        <p:spPr>
          <a:xfrm>
            <a:off x="1714680" y="3429000"/>
            <a:ext cx="488916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nother game at a the carnival.  This game costs $5 to play.  In this game you toss a die and if a 1, 2, or is rolled, you lose (get no money); if you roll a 4 or a 5, you win $20 and if a 6 is rolled, you win $100.  What is the expected amount you will win in the long ru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viously, if you play each game for a long stretch of time, you will win, on average, the expected value.  However, there will be variation in your winnings.  We can compute this var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iance and Standard Deviation of Discrete Random Vari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ariance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pected value of the squared deviation from the me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andard Deviation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s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p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data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142560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ject 3" descr=""/>
          <p:cNvPicPr/>
          <p:nvPr/>
        </p:nvPicPr>
        <p:blipFill>
          <a:blip r:embed="rId2"/>
          <a:stretch/>
        </p:blipFill>
        <p:spPr>
          <a:xfrm>
            <a:off x="2286000" y="2666880"/>
            <a:ext cx="3613320" cy="533520"/>
          </a:xfrm>
          <a:prstGeom prst="rect">
            <a:avLst/>
          </a:prstGeom>
          <a:ln w="0">
            <a:noFill/>
          </a:ln>
        </p:spPr>
      </p:pic>
      <p:pic>
        <p:nvPicPr>
          <p:cNvPr id="58" name="Object 4" descr=""/>
          <p:cNvPicPr/>
          <p:nvPr/>
        </p:nvPicPr>
        <p:blipFill>
          <a:blip r:embed="rId3"/>
          <a:stretch/>
        </p:blipFill>
        <p:spPr>
          <a:xfrm>
            <a:off x="2743200" y="5105520"/>
            <a:ext cx="30132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variance and standard deviation of the two games described earl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ding/Subtracting a Constant to Discrete Random Vari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that for Game 2, they increase the fee to play from $5 to $8.  What happens to the expected value, variance and the standard devi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5:24:00Z</dcterms:created>
  <dc:creator>fmasinmoyer</dc:creator>
  <dc:description/>
  <dc:language>en-US</dc:language>
  <cp:lastModifiedBy>SASD</cp:lastModifiedBy>
  <dcterms:modified xsi:type="dcterms:W3CDTF">2010-03-23T11:19:14Z</dcterms:modified>
  <cp:revision>17</cp:revision>
  <dc:subject/>
  <dc:title>Chapter 16:  Random Variables</dc:title>
</cp:coreProperties>
</file>